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76D-E987-4D5A-B6C0-25918150558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D683-23D4-4C78-8043-357CCC9F652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83E7-1757-447C-A601-DD8CC5F96D6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BF9-BD3D-400E-83E0-61688614F81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517-E196-4AF5-8A42-36C0AA4C520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48D8-FB8C-48D1-A341-4DE281D34DC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912-B950-4251-BA65-376391CDC25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4415-6EBA-41B3-AADF-5717C8565FD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77F-7CB5-45FB-89DE-B19B3BFC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3EA-C8FC-4DD4-9995-3A51BB15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9B7-1791-4C0C-8C26-F4349239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458-8CD1-48A1-B5D6-D1298EDB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772-4B78-465F-8772-EC1430C1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8307-B640-4D31-BB50-3A40972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668-1406-42B8-907A-34078F30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3FE-3C0D-414A-8AEB-FB0C5FB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15D-597D-4284-AD08-C53C038A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A152-FD2E-4555-8D23-D26ECB7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6202-1046-4C85-B559-9C81CA0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498-F67B-402C-B4EF-A73E31A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D907-0CF3-4BD4-8D7D-2A8E01C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60B7-1740-4E75-959E-A48C631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EB0-D2EB-42D5-8C41-51C46198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85C9-9063-498A-A26D-6D239C8D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47A-35D6-43C1-8734-B1A627B3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94413-E639-45A8-AEC7-625DA265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10304-EDB1-47AF-A141-7782726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44847-B7DD-448C-BD1A-121B551A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1DD14-10F2-458A-8FA1-BE5AE3A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BCCDD-7AA2-442C-90EA-024CF1FC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F1D-993A-4CDC-9959-BBE382F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116EA-9752-476A-AE97-0B6A257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FED20-7950-49C3-8893-40D38C5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07ACC-66F5-4D61-9353-C498AFB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706E0-830A-4CFC-82FD-C2871CF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80FDC-81ED-41F9-AA2F-A6B1317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343C4-7008-4C57-B9B1-645CD1E2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869A7-A439-4F1A-B9C9-055E9F5D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01F3-5CDA-4302-9116-706BB851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D44A-F143-41CD-8A18-24DCD12C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9B95-90C8-447F-9B56-C0C7FA8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A87-5947-40CE-A1D5-0C6771A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5FDC-B356-4220-8329-E316B6C8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F9BF-2FBA-4AC2-9486-8A941C9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A75D-91E5-4DE5-91C2-FEE57C7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AA2B-69AF-46EE-A815-C79AEBB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D5AD-3A29-4C64-B4BF-DF9C72C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C800-01D1-4389-A467-7B46139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0A82-1856-4B75-9A5A-DCE90C02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47F6-C327-4F9E-99C2-6200F8BA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BE68-D84E-45C0-AEF0-71D5CF22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3F331-0A30-4A6D-9D85-7D343E97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104-1CFE-495B-A15F-616380D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F0F24-300A-4D3B-9E2E-E576DDD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CE451-13BD-48E8-B547-30FD656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9F463-9FD4-4CFE-8961-F333191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FF636-6A91-496E-89F4-A7F7FD8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06165-9833-4704-813B-92E6E3E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60409-0514-4FFE-8444-B779ABB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B9D36-0FF8-44DA-96FD-C674FCB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44E26-EAA2-4D13-8302-7A90030F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B8007-5ABA-47B1-8D8D-5736194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2D932-7B65-43AC-9727-F26F64F1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6C7-1099-4A23-86A5-643C2B0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32F62-5CE3-40D3-A199-33BEA84B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3FC87-C00B-4C05-9CAB-1F818158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4BF51-9C95-4439-A7BE-69446E2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99BB7-153C-4EF6-9511-36107B9C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B5CF6-0F5A-46F3-AD51-C3DD283B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B5455-6A83-497D-A8A2-D24F4187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7CB58-DF94-4D62-A62E-4FECA24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6E838-69E9-42DF-B722-945232F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C150C-9339-4CC9-B58A-2198EDB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C56E3-E55C-4F94-A920-4629F99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DFA-8FFB-4A3A-9352-2D18917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DFEE6-83BF-480D-96AD-5ED2C8E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1B74F-124C-4464-8B30-2D4EA3CD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5B5ED-C6DB-4611-B1A3-FA5866AD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7129B-BD73-4B79-B400-3544DE1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E1D03-A9EF-4971-BC45-F0AA1F8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C3F9B-2032-413F-A411-E6F2AA5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21450-9EA7-4906-8D75-972B14B7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BD5F9-C98D-4286-8A41-BE162945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424E6-7776-4F13-9271-BBDD193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70EBB-C4E2-405C-93E3-429DFC6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138-9264-42C8-9E61-B97CB98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D25E5-F140-4721-903D-BB819DC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D5A07-7852-46E3-BC2E-0E28D01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0E841-3FE6-422B-88E2-6649BD1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9C828-9033-4D8D-9F38-8C5021C4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12693-65A5-4870-9206-BD28F910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0E3-04F2-400B-887C-625F856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E6AB-7E1D-40DC-BF31-B4C6B38803A9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FA2-20D8-456B-BD0C-B9F7732CDFB7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3516-DFA3-439D-9AFD-82A363E01C04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5FD-1034-4FD9-9764-A5C4B7003C14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989D-5687-4FBD-958D-3B1BF2AB63D5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F9DD-4536-4D15-AF00-F647D7DA5FEB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BDC3-5AD1-44D3-8332-B3A29F9D0316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nance.yahoo.com/q" TargetMode="External"/><Relationship Id="rId2" Type="http://schemas.openxmlformats.org/officeDocument/2006/relationships/hyperlink" Target="http://www.finance.yahoo.com/q" TargetMode="External"/><Relationship Id="rId3" Type="http://schemas.openxmlformats.org/officeDocument/2006/relationships/hyperlink" Target="http://www.stockcharts.com/" TargetMode="External"/><Relationship Id="rId4" Type="http://schemas.openxmlformats.org/officeDocument/2006/relationships/hyperlink" Target="http://www.nasdaq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72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marno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(nisu dovoljno poznata široj javnosti; pokrovitelj prve emisije investiciona bank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o tržište – 2 važne funkcij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čini finansijske instrumente likvidni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formiranje cijene na tržištu (kupovina na primarnom tržištu zavisi od cijene na sekundarno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a tržišta su organizovana na 2 način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Berze (Njujorška, Čikaška robna berza – pšenica, kukuruz, srebro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Vanberzansko tržište – aktivno poslovanje dilera sa različitih lokacija; trgovina “preko šaltera”; trgovina putem kompjuter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obveznica američke vlade koje ima veći obim trgovine od Njujorške berza, organizovano je kao vanberzansko tržište. (na OTC se trguje i prenosivim depozitnim certifikatima, bankarskim akceptima, devizama, derivatima i sl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Nasdaq – National Association of Securities Dealers Automated Quota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Users\Ana\Pictures\200px-NASDAQ.jpg"/>
          <p:cNvPicPr/>
          <p:nvPr/>
        </p:nvPicPr>
        <p:blipFill>
          <a:blip r:embed="rId1"/>
          <a:stretch/>
        </p:blipFill>
        <p:spPr>
          <a:xfrm>
            <a:off x="214200" y="1143000"/>
            <a:ext cx="3691080" cy="5357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1143000"/>
            <a:ext cx="4786200" cy="54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Elektronsko tržite a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Osnovan 1971 od strane N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Posjeduje Nordic SE i 1/3 Dubai SE, od 2007 i Philadelphia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Druga po veličini u Amer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87 usled krize uvodi se SOES – Small Order Execu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98 Nasdaq-Amex Marke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3 nivoa kotira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1 pokazuje spread između  najviše kupovne i najniže prodajne cijene (inside qu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2 pokazuje sve javne kotacije, informacije o kupovnoj i prodajnoj cijeni market maker-a, izvršene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3 koriste market maker-i da bi unosili cijene i izršavali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Nasdaq composite (od 2009 preko 3000 komapnija); Nasdaq 100 (nefinansijske institucije; svjetske kompanije; razlika u odnosu na 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&amp;P500 i DJIA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žište novca  (veći obim trgovine, likvidnost, sigurnija investicija, manja fluktuacija cijena kratkoročnih HOV u odnosu na dugoročne HOV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žište kapital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Internacionalizacija finansijskih tržiš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dicionalni instrumenti na međunarodnom tržištu obveznica su strane obveznice – prodaju se u stranoj državi i denominovane su u valuti te držav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eliki dio željezničkih pruga u SAD izgrađenih u XIX vijeku finansiran je prodajom stranih obveznica u Engleskoj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-obveznica – denominovana u valuti koja nije valuta države u kojoj je prodata. Tržište EO raste velikom brzinom. (obveznica denominovana u dolarima, a prodata u Londonu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 – valute (americki dolari deponovani u stranim bankama van SAD ili u svojim bankama u inostranstvu. Američke banke pozajmljuju euro-dolarske depozite i oni čine značajan izvor finansiran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3000"/>
            <a:ext cx="8043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</a:t>
            </a: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finance.yahoo.com/q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stockcharts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nasdaq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nsakcioni troškovi posredovanja (posrednici mogu smanjiti te troškove i obezbijediti likvidne usluge – olakšati transakcij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smanjuju rizik investitora (diversifikaci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Asimetričnost informacija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egativna selekcija – može nastati prije transakcije (zbog visokorizičnih klijenata svi se isključuju sa tržišt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ralni hazard – može nastati nakon transakcij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umanjuju rizik i mogu otkloniti negativnu selekciju ili moralni hazar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00040" y="128592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egulativa mora smanjiti probleme negativne selekcije i moralnog hazarda zbog optimalnog funkcionisanja na tržiš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kon sloma i širenja kriminala 1929 godine, 1933 se donosi Zakon o HOV i osniva Komisija za HO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htijeva se transparentnost, zabranjuje se trgovina na bazi insajd informacija – cilj zaštit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simetrične informacije mogu izazvati “finansijsku paniku” – povlačenje sredstava kako iz sigurnih, tako i iz nesigurnih institucija (posrednici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misija za HOV nadgleda rad finansijskih institu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Zašto obična akcija IBM predstavlja aktivu za vlasnika, a pasivu kompaniji IBM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žete kupiti automobil danas za 5000$ i on će vam donijeti dodatnih 10000$ prihoda, jer ćete pomoću njega raditi kao trgovački putnik. Da li treba da uzmete kredit zbog kupovine automobila od Mark-a (Loan Shark), uz 90% k.s., ukoliko vam niko drugi ne odobrava kredit? Da li je moguće legalizovati davanje kredita uz visoke kamatne stope? Kako takva pojava utiče na finansijska tržišt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ta biste radije držali – obveznice ili akcije kompanije za koju se sumnja da će bankrotirati za godinu dan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avedite slučaj negative selekcije u kojem ste se Vi bili učesn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ako podjela rizika doprinosi i finansijskim posrednicima i privatnim investitorim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a li je moguće potpuno ukloniti asimetriju u informisanju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2-19T13:33:04Z</dcterms:modified>
  <cp:revision>12</cp:revision>
  <dc:subject/>
  <dc:title>Slide 1</dc:title>
</cp:coreProperties>
</file>