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9FAE-5D0F-42A5-BAFB-63AA5FED260E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A9C7-3E13-41F0-A9EE-02F763359118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64DD-4E43-430B-A9B1-0BDF143B0874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44D5-FA5D-44D1-BE22-F9569026E973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C1A2-B68B-4977-B862-A6CDABD32607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EB36-D91E-4195-95AE-7D57A886CFF9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2E71-AB6E-467C-81D5-670DD81E30E8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D4F5-03F6-4E05-9822-6779E0894B1A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5232-24DF-404C-BB93-746369465ABB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83BE-1012-45CB-B91A-0D04DBDFB9A3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4925-74BB-4254-97B3-5D3701A1CBD1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F597-B89B-454F-B27C-2CCEFE2E1551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ECD2-6ED9-4684-94DA-4DDD11D69DDE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060A-4E08-4562-948F-5E4E307CF627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EC4A-2F07-4F01-88B2-49A9A515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59C7-73C6-4C99-B4F4-DE4B4D2E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891E-7360-427B-A000-89808FAA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2C65-5C6E-44AD-A7AF-3B26CECB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F30F-D058-4791-9BE4-30CD68AE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2C32-2A83-411D-BE14-D86DA55E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0A67-626C-4018-8EE2-5DE6DB09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C195-EA8B-4FB8-A87E-0995CF31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9FBA-9C51-4A96-A792-B204F5AB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B25E-6425-4ADB-9DC3-4E32432E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F7AC-619C-48BE-91FB-3C8E790F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CBFA-6204-44E4-B931-072DDEFA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696F-388B-4104-86B6-105C0ED7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22C4-3968-4692-B51B-A04DA24A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FC9D-3E28-434B-A6C5-C27C0843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E3DA-52A1-45C2-B68C-25238CC3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7B7A-039C-44AF-A9E3-101A0E61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481AD-33A7-493F-8FC7-8A6D900E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3E872-826C-4CC6-96BB-E37F2C09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5A6AC-7ADD-41A4-958A-672D70C7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5FDBD-1032-4F36-A776-79DA289F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01D33-1504-44D1-B6E8-D56FBD9F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1E8-716D-4947-8E73-70CC2645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344A3B-FA87-412B-B2B3-E49F9F84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A5744B-DFC2-4AD3-91B5-7E831B21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9A0D2-CE77-429D-8D69-FD16CFDC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CCFEE-172E-4245-A0D8-AA9127F1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7FF98-68AD-45F7-887C-6B3BB734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4BADE-540E-401B-ACF4-DFCE7E90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E50DF-A370-466D-AC36-D1245DEB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C7802-0A71-4235-891F-A93AFE46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D750F-4D38-4701-A1C3-9DB73A81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F4C69-04D8-48B3-94B9-E57004C3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7999-3282-4D8A-B53A-E103E247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F2BE1-52CD-49AC-94A1-FCF22F94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4C537-D3F9-4F94-A001-F165F328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89923-CC25-4AE3-920D-2DCC3FD9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2DECC-B198-4E0C-B19C-40A4A603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BA49F-75AD-4C8D-8548-65416192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08CAE-EC4F-4375-B615-A0885C2E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1549C-AE2E-4522-AD58-A2908C3E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779F8-ACA3-4D06-810C-5CC8807F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82458-4F25-4A49-B152-4000C1C7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4876E8-83F4-4E85-8DD4-478D6220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93E-FDD7-4671-9F47-9C528B30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B59A1-85AB-4C89-B73E-9DED14F3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353E6-12F0-4552-9463-2F4EF340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E7F4E7-13CB-480F-843A-7B887E63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953282-439D-4E97-8F2C-C3C34FB4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639BAA-A1A7-4F4F-AC6A-3DA40A95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A856D-A13D-4541-BF08-7BDD7B9A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B6D321-9AC6-47A5-B8CC-EE37B348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2F0A0-2EA0-4A54-9995-3148EAFB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008C72-EC6B-4254-8CDA-29A8F065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6E046-766B-4F4B-9CC6-4BA0F981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9329-F790-486E-A46B-08DD2246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8B7C1F-30DA-4A04-867F-9C3D1655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C482A1-ABDA-4925-B23E-A565C198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CBAD7F-2E9A-4105-B139-AA868196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23FBBD-0089-480C-BAE7-92E34B11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5BD22F-1584-429B-8354-15A89C25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7318E-ED37-45D2-9FC1-F790B51E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A32970-D396-4058-A41B-5255EFC3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72262-3AC6-4B51-8CF3-4A406B95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527D95-7303-4DE8-83A2-883C1290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D71B31-3705-41E5-96A0-9CB383A0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BB9-04F6-4548-A471-E63CC396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F865AE-B55B-4615-94B6-8281CFCE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6C56A4-1271-46EA-AB24-7A5EE168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214988-6834-45FA-BB03-522981B0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5650CA-6022-482F-B69F-81AC1F4D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01CC17-98D3-4DA8-8363-C1350979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91F91D-E87B-4AEB-8435-C1C05A6F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3A5514-E075-4B0D-9B00-02A7D859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203A11-7CEC-44B6-AFCB-337DEAE0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63D6BD-2667-491C-98B3-FCA68582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979702-28A3-4AA1-A2CE-57996A63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802-B13A-4E70-B774-C3B19E8B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4315E8-F197-4A8D-BD69-632D1307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A11052-DE36-4694-BC5E-CCFBDF2F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F7FC2A-A331-478B-8198-CE4AC20F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DE7C86-2042-4BC1-ADC3-8AA75262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1588A5-4217-410A-A93E-FB4945EF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C0F-AACF-4BC0-9FE0-A3119EAA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58A2-E5BD-4485-967A-ECF1E025BF66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18AF-1CA6-49E4-8CA2-4E15BDE7C520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C7A8-D6AA-448C-897D-EC6EDA8544AF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F519-CA0A-476D-8905-871126490F11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5651-9C9E-4B02-B807-493DC6B42A9C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7C0E-CB18-4273-ABCD-C13812096D68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255E-8C07-4CA9-B464-4E6AD11B5030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13840" y="999720"/>
            <a:ext cx="8929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inos ekvivalentan obveznici – Bond Equivalent Yield (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be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ili ASK Yield iz listing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br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 ASK Yield se v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 zbog nedostatka prethodne metode i prikazuje realniji prinos investito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 pravilu je ve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 od prinosa dobijenog metodom bankarskog diskon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skont se stavlja u odnos sa prodajnom cijenom i svodi se na godi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ji nivo uklju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vanjem svih 365 dan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fektivni godi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ji prinos (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ea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koristi slozeni kamatni r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 i predstavlja najrealniji obr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, koji nije u upotrebi kod r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a prinosa zapis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5010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85840" y="1143000"/>
            <a:ext cx="8572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Tržište obveznica – tržište kapitala sa fiksnim prihodo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rednjoročne i dugoročne državne obveznice  (T-notes i T-bonds), dug državnih agencija, municipalne obveznice, hipotekarne hov i s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rednjoročne i dugoročne državne obvezn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Izdaju se sa denominacijom od 1.000 dolara i više; polugodišnja isplata kupo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sr-Latn-CS" sz="1800" spc="-1" strike="noStrike">
                <a:solidFill>
                  <a:srgbClr val="000000"/>
                </a:solidFill>
                <a:latin typeface="Century Schoolbook"/>
              </a:rPr>
              <a:t>Treasury bon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4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714240" y="5000760"/>
          <a:ext cx="7429680" cy="1160280"/>
        </p:xfrm>
        <a:graphic>
          <a:graphicData uri="http://schemas.openxmlformats.org/drawingml/2006/table">
            <a:tbl>
              <a:tblPr/>
              <a:tblGrid>
                <a:gridCol w="1238400"/>
                <a:gridCol w="1905120"/>
                <a:gridCol w="928440"/>
                <a:gridCol w="1214640"/>
                <a:gridCol w="904680"/>
                <a:gridCol w="1238400"/>
              </a:tblGrid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urity Mo/Y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K 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b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4: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4: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y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2: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2: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28760" y="1143000"/>
            <a:ext cx="77580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Obveznica dospijeva  za naplatu 2014. godine. Kuponski prihod iznosi 4% nominalne vrijednost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Brojevi na desnoj strani koji određuju kupovnu i prodajnu cijenu predstavljaju jedinice od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1/32. Tj.,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kupovna cijena iznosi 94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16/32 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ili 94,5 prodajna cijena iznosi 94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17/32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 ili 94,531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Ove cijene predstavljaju procenat nominalne vrijednosti – cijene su zapravo 945 $ i 945,31 $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romjena od +3 znači da je cijena tog dana porasla za 3/32 (procenat od nominalne vrijednos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rinos do dospijeća je mjera godišnje stope prinosa za investitora koji je kupio obveznicu i drži je do dana dospijeć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4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14200" y="1071720"/>
            <a:ext cx="87156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Dug državnih agencija (Fannie Mae, Freddie Mac, Ginnie Mae) – nizak rizik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Euroobveznic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Korporativne obveznice (opozive i konvertibil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00"/>
                </a:solidFill>
                <a:latin typeface="Century Schoolbook"/>
              </a:rPr>
              <a:t>Municipalne obveznice – izdaje ih opština i oslobođene su lokalnih poreza na prihod od kamat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Dvije vrste: general obligation bonds (obveznice opšte obaveze) i revenue bonds (dohodovne obveznice – osigurane prihodima projekta; rizičnije u odnosu na obveznice opšte obaveze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Dospijeće do 30 godin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R(1-t) – prinos na oporezive obveznice nakon plaćanja porez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Vrši se komparacija sa prinosom municipalnih obveznica i traži ekvivalentan oporezivi prinos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inosu 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obveznice izuzete od porez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R(1-t)=Rm ili R=Rm/(1-t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15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4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071720"/>
            <a:ext cx="797256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Ukoliko je ekvivalentni oporezivi prinos veći od stvarnog prinosa na obveznice, onda će investitor rađe držati municipalne obvezn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t= 1- (Rm/R) – što je veći odnos između Rm i R, investitor će preferirati municipalne obvezn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4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800" spc="-1" strike="noStrike">
                <a:solidFill>
                  <a:srgbClr val="575f6d"/>
                </a:solidFill>
                <a:latin typeface="Century Schoolbook"/>
              </a:rPr>
              <a:t> – FINANSIJSKI INSTRUMENTI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052280"/>
            <a:ext cx="82580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Materijalna vs. Finansijska aktiv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Finansijska aktiva – nematerijalizovan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Klasifikacija finansijske aktive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HOV sa fiksnim prihodom (obveznica donosi kamatnu stopu koja je fiksirana tako da bude za 2% vi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a od stope koja se pla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a na kratkoro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ne dr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avne obveznice – T bills)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Promjenljiva kamatna stopa – isplata zavisi od teku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e kamatne stope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Vezuju se za razli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ita dospije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a i prinose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Tr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ž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i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š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te novca se odnosi na kratkoro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č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ne HOV koje su visokolikvidne i nose nizak rizik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       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Tr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ž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i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š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te kapitala se ve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ž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e za dugoro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č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ne HOV – Treasury bonds, visok prinos i visok rizik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Junk obveznice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 (ispod BBB rejtinga)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500040" y="142920"/>
            <a:ext cx="814392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6044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500040" y="142920"/>
            <a:ext cx="8143920" cy="69278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9807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1.   Akcije – vrijednost akcijskog kapitala se vezuje za uspjeh firme i njenu materijalnu aktivu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2.   Finansijski derivati – opcije i termniski ugovori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all opcija – pravo da se akcije kupe po utvr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đ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noj cijeni izvr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nja (strike cijena) na dan isteka opcije ili prije tog datum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Vrijednost derivata se izvodi iz vrijednosti drugih instrumenata. Vrijednost pomenute call opcije zavisi od cijene akcije na koju se odnosi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ju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rsi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Osiguranje od rizika ili prenos rizika na druge ucesnike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6840" y="1214280"/>
            <a:ext cx="82580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rtfolio – skup investicija jednog investito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vije vrste odluka : o alokaciji aktive (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roke klase) i o odabiru hartija od vrijednosti (hov unutar svake klase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op – down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zgradnja portfolija po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je alokacijom aktive (berza akcija ili t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 novc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Bottom – up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rategija podrazumijeva analizu HOV u koje se ul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 u okviru pojedinih klasa (analiza cijene, prinosa, kamatnih stopa i sl.). Ova strategija usmjerava portfolio na aktivu koja je najprivl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ija za ulagan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643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6840" y="1214280"/>
            <a:ext cx="847260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ratkoro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 d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vne obvezni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-bills ili Treasury bi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isoko likvidno t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va prodaje zapise, a investitori ih kupuju uz diskont ili popust u odnosu na navedeni iznos njihove vrijednosti na dospije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. Prilikom dospije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d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va ispl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je iznos jednak nominalnoj vrijednosti zapis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zlika izmedju kupovne cijene i kon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 vrijednosti na dospije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 jeste zarada investito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zdaju se jednom nedeljno (dospijece 28, 91 ili 182 da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upuju se direktno ili putem posredni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daju se u minimalnim apoenima od 1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000 dola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5010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428760" y="1285920"/>
          <a:ext cx="7929360" cy="1477800"/>
        </p:xfrm>
        <a:graphic>
          <a:graphicData uri="http://schemas.openxmlformats.org/drawingml/2006/table">
            <a:tbl>
              <a:tblPr/>
              <a:tblGrid>
                <a:gridCol w="1322280"/>
                <a:gridCol w="1606680"/>
                <a:gridCol w="1036440"/>
                <a:gridCol w="1320840"/>
                <a:gridCol w="1322280"/>
                <a:gridCol w="13208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ays to 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K 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p 02 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p 09 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v 04 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9001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357120" y="92880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asury b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6"/>
          <p:cNvSpPr/>
          <p:nvPr/>
        </p:nvSpPr>
        <p:spPr>
          <a:xfrm>
            <a:off x="357120" y="292896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mjesto cijene zapisa, listing prikazuje prinose zasnovane na tim cijen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dajna cijena jeste cijena po kojoj diler prodaje, a investitor kup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Kupovna cijena jeste cijena po kojoj diler kupuje, a investitor prod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aspon izmedju kupovne i prodajne cijene je zarada dil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imjena </a:t>
            </a:r>
            <a:r>
              <a:rPr b="0" i="1" lang="en-US" sz="1800" spc="-1" strike="noStrike">
                <a:solidFill>
                  <a:srgbClr val="ff0000"/>
                </a:solidFill>
                <a:latin typeface="Century Schoolbook"/>
              </a:rPr>
              <a:t>metode bankarskog diskonta (Rbd – Discount Banking return)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i obra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nu prinosa na prodajnu ili kupovnu cijenu zapisa. Diskont na nominalnu vrijednost se ra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na na godi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jem nivou na bazi od 360 dana i potom prikazuje kao procenat nominalne vrijed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edostaci metode bankarskog disko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Koristi prost kamatni ra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n i 360 dana umje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o 365 d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avlja u odnos diskont (zaradu) sa nominalnom vrijedno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šć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, umjesto sa kupovnom cijenom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4:18:04Z</dcterms:created>
  <dc:creator>Ana</dc:creator>
  <dc:description/>
  <dc:language>en-US</dc:language>
  <cp:lastModifiedBy>User</cp:lastModifiedBy>
  <dcterms:modified xsi:type="dcterms:W3CDTF">2017-03-14T12:56:38Z</dcterms:modified>
  <cp:revision>32</cp:revision>
  <dc:subject/>
  <dc:title>Slide 1</dc:title>
</cp:coreProperties>
</file>