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21BD0F-672C-4B6C-8D2A-FD4FDEBE6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F1B3AC-737C-4E80-9F24-C828FECAA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B309DA-9856-4160-BAB3-E0A01D601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2BB880-488A-4BD4-9559-789E9F0C5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E4F7F6-31C9-4168-9EEF-FA1CA512B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3F1F20-B913-4421-AF3A-31B91C81E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BD84BF-3916-44CC-825C-6A82DF82C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E9AAD5-E836-45AF-BFE9-C2352D48A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CB3AA0-C3DB-401F-A889-A1D3070B4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B2B550-63C2-4886-9C2D-FD3697C48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839BBF-2055-4EC9-AD7B-2E2619AA2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B7FE7A-AC1F-443B-BE7D-A9E855C1B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284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936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32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284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936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95120" y="151920"/>
            <a:ext cx="6324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284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1936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32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284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1936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95120" y="151920"/>
            <a:ext cx="6324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6629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9900"/>
                </a:solidFill>
                <a:latin typeface="Arial"/>
              </a:rPr>
              <a:t>Dobrodošli u </a:t>
            </a:r>
            <a:r>
              <a:rPr b="1" lang="en-US" sz="7200" spc="-1" strike="noStrike">
                <a:solidFill>
                  <a:srgbClr val="009900"/>
                </a:solidFill>
                <a:latin typeface="Arial"/>
              </a:rPr>
              <a:t>Wall Street</a:t>
            </a:r>
            <a:endParaRPr b="1" lang="en-US" sz="7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6" name="Picture 5" descr="Extension logo 12-01"/>
          <p:cNvPicPr/>
          <p:nvPr/>
        </p:nvPicPr>
        <p:blipFill>
          <a:blip r:embed="rId1"/>
          <a:stretch/>
        </p:blipFill>
        <p:spPr>
          <a:xfrm>
            <a:off x="1676520" y="5673600"/>
            <a:ext cx="17524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1371600"/>
            <a:ext cx="63244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Shvatanje tržišta kapital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3200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što kompanije prodaju akc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i mogu biti izvori finansiranja kompan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dje kupiti akc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 pratiti stan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 li treba investirati u ak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324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Nadzor</a:t>
            </a: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91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6324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Šta je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Wall Street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Picture 5" descr="bs00558a"/>
          <p:cNvPicPr/>
          <p:nvPr/>
        </p:nvPicPr>
        <p:blipFill>
          <a:blip r:embed="rId1"/>
          <a:stretch/>
        </p:blipFill>
        <p:spPr>
          <a:xfrm>
            <a:off x="1295280" y="1447920"/>
            <a:ext cx="54864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324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Šta je akcija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6668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lasništvo u kompanij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s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cija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jene/kvo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bvezi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vezn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upo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žište novca i kapita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447560"/>
            <a:ext cx="670536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Zašto kompanije emituju akcije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3276720"/>
            <a:ext cx="56386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panzi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re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t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447560"/>
            <a:ext cx="60958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Finansijska tržišta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3123720"/>
            <a:ext cx="6629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 tržiš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er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Counter Marke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 OT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nudarno tržiš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2388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Rizik i prinos – obična akcij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28191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lding period yield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or retur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(HPY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 or HP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PY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vidends + Price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rchase Price 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3244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Berzanski izveštaj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Picture 4" descr="e_stocktable"/>
          <p:cNvPicPr/>
          <p:nvPr/>
        </p:nvPicPr>
        <p:blipFill>
          <a:blip r:embed="rId1"/>
          <a:stretch/>
        </p:blipFill>
        <p:spPr>
          <a:xfrm>
            <a:off x="541440" y="2819520"/>
            <a:ext cx="842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342900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Industrijskih akci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jenovno ponderisan inde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Koji su njegovi nedostaci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371600" y="16765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Dow J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Industrial Ave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4:05:28Z</dcterms:created>
  <dc:creator>Ext CDFS</dc:creator>
  <dc:description/>
  <dc:language>en-US</dc:language>
  <cp:lastModifiedBy>User</cp:lastModifiedBy>
  <dcterms:modified xsi:type="dcterms:W3CDTF">2018-02-12T07:09:12Z</dcterms:modified>
  <cp:revision>25</cp:revision>
  <dc:subject/>
  <dc:title>Welcome to Wall Street</dc:title>
</cp:coreProperties>
</file>