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B12-9125-4244-9837-6A7E9F78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183-540A-4D3F-B8A6-30A60B9A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2D1-EE0D-4333-BE1C-24EDDF91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E68-F0C1-4079-B883-20A362F2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DF0D-17E9-4EDB-BC69-B3A35D7E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6C6F-503D-435E-ABFD-899E0BE7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F5B0-C9F0-492B-A3AD-18B87D58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1608-8E25-4B5E-82A7-FB23D009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D889-A7FF-429C-B76C-3118E7EC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CC63-D891-4023-AFCF-A83C9B56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EAAD-BD19-42C7-9D24-C88F3408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BCD-DEBA-450A-9AFD-392FF2E6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6DF4-05CE-4A41-9D59-3993234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D7D9-D805-49AC-BB0B-97A70DDD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CD00-9F90-4498-B00F-D623FAC3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DEA9-8E1B-4F32-B8E1-DC9BCA2C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D90B-016E-4A6F-86FA-78AD5B15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1F264-FA85-4BF8-87CD-6B4DD417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E9B7-68DA-4017-9F5F-64F5E0D0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43D4-0589-4EFE-BF7A-91F22B83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D9A1E-90AC-423B-8779-EE926DAB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F22B-B70E-4E15-9AF8-EAE25D2B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C89-7D89-4AB2-8C1C-6D420A32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9B9B-1D42-4ED1-8FFE-85966946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9666-AAED-4623-A118-EFCED80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701F-4801-4054-9826-A5955B16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572C-E158-420C-B7D9-E2964F4D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1FB5-5450-4DFC-B650-6955DAF7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900A-9FB4-4EAC-A710-374490F9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5F59-AFBE-49FC-ACC6-4A2492D6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58FE3-98BF-41DD-8DD8-3A0647D4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C14D-1A1F-44C1-B2C4-FDED1C24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F7F0-CD78-4950-898B-BE6AFA5E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DED-77B2-441F-A25C-9AE07EBD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FED66-D4EB-4AB6-9B0A-F1CDAABB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085B3-B9BE-4801-8C24-89D46FB9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8BE2-8405-4C39-B409-6EB32ADD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A5ED2-1280-4749-83BA-19E74B2C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C355F-565E-4FD2-8F83-986B8E7D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61E1-A3CF-462B-A371-3EDEE4E0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14134-13CC-4C4F-A36A-DB272EB8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4FF8A-3325-4F0E-875C-751E2376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AB15-33AA-4071-820B-260B7132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FA4A9-3B68-41D0-994C-0A3D6C33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378-73DD-4846-8337-A9831322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03A35-3197-49B0-810F-CB0A870D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FF274-592D-4C1D-B204-6302B836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428A8-756C-40F6-9F16-A2E04841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B2775-F795-4849-BEE2-EAA179A5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9248D-54A8-4560-9F73-E5C95C5D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46B57-9F10-457A-9367-24D636E8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5BCF8-05DC-4B70-B56C-A33A1D7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F646A-E1FB-48C6-A452-6BF58F8A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FDBF8-C07C-4BA4-AC3E-639AE4EC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73C6F-15E0-4E35-9EC9-C499A146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378-0C4D-4A2F-9E43-3772E1EE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5035F-469B-493E-8623-1281F1FF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DEF-49EF-4208-ADAA-B319FC7A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A84-9E4E-44A4-8016-15C94FA9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F3D-37CE-4788-B539-68FCDC1F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457C-F746-4CC8-A291-C65D90C7D9EC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9403-0A41-4AE0-94BA-FEAB355A5018}" type="slidenum">
              <a:rPr b="0" lang="sr-Latn-C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A6CD-2ABA-45D5-B956-4E7C872039E8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FAAE-2144-4D0C-9DDF-FA13156FC5BF}" type="slidenum">
              <a:rPr b="0" lang="sr-Latn-C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69C4-18FC-4054-BD55-531EC7BC0A05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Berzansko poslovanj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44440" y="133200"/>
            <a:ext cx="7461360" cy="658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-360" y="1000080"/>
            <a:ext cx="835812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Finansijsko izvještavanj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štampani medij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nn-NO" sz="2000" spc="-1" strike="noStrike">
                <a:solidFill>
                  <a:srgbClr val="000000"/>
                </a:solidFill>
                <a:latin typeface="Trebuchet MS"/>
              </a:rPr>
              <a:t>- elektronski mediji (televizija, radio, interne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Znacaj izvjestavanj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rebuchet MS"/>
              </a:rPr>
              <a:t>Informacij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Asimetrija informisanost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Berzansko izvještavanj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na trzistu novca i kapitala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 akcijama i obveznica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 investicionim fondovi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pšta tržišna kretanja (indeksi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14200" y="1143000"/>
          <a:ext cx="7929720" cy="1584360"/>
        </p:xfrm>
        <a:graphic>
          <a:graphicData uri="http://schemas.openxmlformats.org/drawingml/2006/table">
            <a:tbl>
              <a:tblPr/>
              <a:tblGrid>
                <a:gridCol w="1096920"/>
                <a:gridCol w="855720"/>
                <a:gridCol w="905040"/>
                <a:gridCol w="666720"/>
                <a:gridCol w="880920"/>
                <a:gridCol w="881280"/>
                <a:gridCol w="1141200"/>
                <a:gridCol w="825480"/>
                <a:gridCol w="67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     37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vj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   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    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p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P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      2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3/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4"/>
          <p:cNvSpPr/>
          <p:nvPr/>
        </p:nvSpPr>
        <p:spPr>
          <a:xfrm>
            <a:off x="357120" y="300024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Popuniti izvještaj na osnovu sledećih podata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Akcija IN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Neto dobit iznosi 24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Dividende su raspodijeljene – racio plaćanje dividendi iznosi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Emitovano je 10.000 a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Akcija EPC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Poslovna dobit firme iznosi 45.000, a poreska stopa iznosi 20% (nema troškova finansir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Kompanija emituje 6000 a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Dividenda je raspodijeljena u razmjeri 1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214200" y="1714680"/>
          <a:ext cx="7929720" cy="1584000"/>
        </p:xfrm>
        <a:graphic>
          <a:graphicData uri="http://schemas.openxmlformats.org/drawingml/2006/table">
            <a:tbl>
              <a:tblPr/>
              <a:tblGrid>
                <a:gridCol w="1096920"/>
                <a:gridCol w="855720"/>
                <a:gridCol w="905040"/>
                <a:gridCol w="666720"/>
                <a:gridCol w="880920"/>
                <a:gridCol w="881280"/>
                <a:gridCol w="1141200"/>
                <a:gridCol w="825480"/>
                <a:gridCol w="67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     37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vj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,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,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   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    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p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P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,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      2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3/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HVALA NA PAŽNJ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6:06:55Z</dcterms:created>
  <dc:creator>Ana</dc:creator>
  <dc:description/>
  <dc:language>en-US</dc:language>
  <cp:lastModifiedBy>Ana</cp:lastModifiedBy>
  <dcterms:modified xsi:type="dcterms:W3CDTF">2010-03-23T11:26:33Z</dcterms:modified>
  <cp:revision>13</cp:revision>
  <dc:subject/>
  <dc:title>Finansijsko izvještavanje</dc:title>
</cp:coreProperties>
</file>