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B5E-15A1-470F-854B-547D96CB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18A-5D8A-4EF4-A153-722C8C36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625-C308-4709-B118-E66211DD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C3C-08B3-4611-8E4D-28D08297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D70D-9F54-4260-A1A9-E863FFAB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7F17-010C-4CCC-AF37-176E747A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BC5F-AFC8-4F26-B9F9-2E6EDED6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4DD7-786A-4F77-8BDE-BD013D19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DCFE-7D56-40AA-823F-5E25EA54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1E32-C720-4093-A25E-933E3173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29FC-2AC4-4465-B4E7-257BD4F6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D01-29C1-4400-B624-33FC830D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C78-B308-4805-AEB0-CD88643B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4FF7-C131-4C30-9C53-61BD77A8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631F-C485-475E-A791-0D7DDB99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0352-0778-4B74-BB70-2F791910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1014-1CD0-43C9-9076-0A942FBA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4477-A5D9-47B4-B78A-0D633390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D55D-D2FE-418B-9D47-5113055E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7638-8745-47DD-88AF-E859590D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3FAE-E2A4-4A67-8229-E2F86A5B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D536-8CEB-4DCB-A662-918B9229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FD4-A67B-4EE4-B616-24EEBBE0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E46C-917C-4318-BFA6-9DED9A14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17AE-D7F7-4760-9396-C1B0E5F1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A04A-199E-4C25-ACD4-90C71BF1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6D87-459E-4C70-BA44-704E3ADB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591A-FC77-4957-9626-4BCF401A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2FFC4-39A8-45C1-97BD-AF58F15A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A33B-18C9-435F-98E7-6DD2FC6E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B36E-C37E-4C9B-BE25-0D00CC67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818E-CF49-467E-B01E-21B69813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0085-1FAF-40AF-BF77-738439A2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A89-EDA5-4FEC-8F1F-A1D94F3F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9D68-9837-4F1C-9FC0-AAB2A379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1F3E8-580F-4082-8139-7EA2463D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4DB1-43EF-4EB0-9B1C-6EEBB63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9774-FCBC-4A29-A399-84B4719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895D4-5131-4C81-A77E-228E2D75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990A-144D-4FED-BD38-A410389C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0563-2BAB-4A40-9E50-8255F9CD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5D41-193A-47DB-AEE2-95E5A14B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0D8C-14A8-4DF1-A85F-4C16896C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5B16A-644F-40B8-900A-A14BDA2A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5CA-7A4C-49DA-B549-5F8EFBE9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3B2A-8360-4482-AB30-6F65B7C3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73812-1955-4EC2-82B9-8A3E1D0A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A2F7-9B68-46CF-9EB4-76EAEABD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C89CD-4A2C-4CC8-BECB-0D6A3ACF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EA68-411A-426C-A72F-688E007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91C0-EDD2-4955-919A-7D99FB9E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C808-7CBD-49FD-BDE2-BFEA824A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C356-D53A-4FC3-B692-35A4851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66890-1D03-4158-8580-218C32B8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08E06-2A50-4B8B-904C-9EBB2867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60A-50E4-4AE9-9B7F-65BCE54D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FAFC-7DC3-4DD6-8F75-3B5B083E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118-10A9-459E-B302-83A1EEB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C26-903F-4FF5-B287-8236857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D13-C3D1-4068-A931-CA6F096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483A-A580-4CF5-B5F9-F3A18EF1B9E7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947B-64CE-46CA-9AA5-AF6EEE439BBA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3D4-B2D4-48DE-B4F1-3B310F89C65B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47C1-7207-4D0F-A019-F819BF26D588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8BA3-E578-403E-A67A-9154A6EC57B1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8400" y="530280"/>
            <a:ext cx="6960960" cy="2620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RZANSKI INDEKS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13840" y="1609200"/>
            <a:ext cx="792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zračunavanje DJ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JIA=zbir cijena akcije/djelila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a bi se otklonili problemi u promjeni djelioca, od 1992 se koristi sledeći obrazac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Tekući djelilac*(Ukupna prilagođena tržišna vrijednost/Ukupna neprilagođena tržišna vrijednost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ti novi djelilac, koristeći podatke iz prethodnog primjera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Rješenje: 5*(120/150)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led stalnih prilagođavanja, vrijednost djelioca Dow Jones prosjeka je neprestano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manjivana (danas je ispod 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itik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ekcije u djeliocu prikazuju rast indeksa, što ne predstavlja realnu sliku tržiš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30 akcij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ne može biti reprezentativn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stalnost procjene (diobe i zamjene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ikaz trend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nderisani su tržišnom vrijednošć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 = sadašnja tržišna vrijednost/tržišna vrijednost iz baznog perio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mpanije sa većim brojem akcija i većom cijenom akcija presudno utiču na kretanje indeksa. Stoga vrijednost indeksa zavisi od 2 faktora: cijene akcije i broja prodatih (ili kupljenih) akci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ma prilagođavanja djelio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, NASDAQ, Russel 2000 i s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 se sastoji od 4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d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deksa: industrijski, transportni, sektor usluga i finansijsk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ije presudna najveća tržišna vrijednost kompanije za uključivanje u indeks; bitna je reprezentativnost grane i vodeće kompanije iz tih gran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oredna analiza Dow Jones-a i 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imjer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ema podacima u tabeli, izračunati vrijednosno ponderisani indeks tržišta akcija. Dati interpretaciju. Napomena: Akcija A pocijepana je u odnosu 1 stara: 4 nove, akcija B je pocijepana u odnosu 1 stara : 2 nove, dok je kod akcije C izvršena isplata dividende novim akcijama u iznosu od 20%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71680" y="3929040"/>
          <a:ext cx="7358040" cy="1692360"/>
        </p:xfrm>
        <a:graphic>
          <a:graphicData uri="http://schemas.openxmlformats.org/drawingml/2006/table">
            <a:tbl>
              <a:tblPr/>
              <a:tblGrid>
                <a:gridCol w="1000080"/>
                <a:gridCol w="2428920"/>
                <a:gridCol w="1214280"/>
                <a:gridCol w="2714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14200" y="1428840"/>
            <a:ext cx="7858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Rješe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prije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500 + 5*1.000 + 80*2.0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173.000/210.000 = 0,8238 *100 = 82,3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nakon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2.000 + 5*2.000 + 80*2.4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234.000/210.000 = 1,114 *100 = 111,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85840" y="1857240"/>
          <a:ext cx="7858080" cy="1597320"/>
        </p:xfrm>
        <a:graphic>
          <a:graphicData uri="http://schemas.openxmlformats.org/drawingml/2006/table">
            <a:tbl>
              <a:tblPr/>
              <a:tblGrid>
                <a:gridCol w="1189080"/>
                <a:gridCol w="2098440"/>
                <a:gridCol w="1212840"/>
                <a:gridCol w="1354320"/>
                <a:gridCol w="200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 novo st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828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KAZATELJI CIJENA NA TRŽIŠTIMA HOV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NAČAJ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ETANJE OPŠTEG NIVO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IKATORI OPŠTEG STANJA U PRIVRED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STVARENE CJENOVNE PROMJENE – </a:t>
            </a:r>
            <a:r>
              <a:rPr b="0" lang="sr-Latn-CS" sz="2600" spc="-1" strike="noStrike">
                <a:solidFill>
                  <a:srgbClr val="ff0000"/>
                </a:solidFill>
                <a:latin typeface="Trebuchet MS"/>
              </a:rPr>
              <a:t>EX PO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EDNOSTI I NEDOSTACI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1609200"/>
            <a:ext cx="7472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Average - prvi pokazatelj cjenovnih promjena akcija (konstruisan prije više od 100 godin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d tada se razvijaju brojni oblici mjerenja cjenovnih promjena akcija koji se dijele u dvije grupe: prosjeci cijena akcija i indeksi cijena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osjeci cijena akcija – cijenom ponderisani prosjec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i cijena akcija – indeksi ponderisani tržišnom vrijednošću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82520" y="353880"/>
            <a:ext cx="75106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vanje prosjeka cijena akcij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Aritmetička sredin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Suma cijena akcija se dijeli sa brojem koji se definiše kao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onder je definisan visinom cijene konkretne hartije od vrijednosti – veće cijena hov, veći relativni uticaj na veličinu prosjek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blemi kod izračunavanja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Zamjena akcija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izabrati novu akciju sa sličnim per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fo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rmansama ili usaglasiti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mjena veličine liste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ponovni obračun kroz usaglašavanje djelioc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Dioba akcija – ako je izvršena dioba akcije od 200eura u razmjeri 5:1, koliko iznosi cijena akcije? Da li to utiče na prosjek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aglašavanje posle diobe se vrši na 3 način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amjena sa drugom akcijom (veoma je teško naći akciju sa sličnim karakteristikama, posebno ako se isključuje iz prosjeka akcija koja ima značajno mjesto u svojoj djelatnosti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šćenje multiplikatora – podjela 4:1 znači množenje nove cijene sa 4; jednostavan način usaglašavan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govanje djelioca – način koji se koristi kod Dow Jones prosjek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5103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42560" y="1213920"/>
            <a:ext cx="8072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imjer: data je tabela sa sledećim podaci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osjek iznosi 150/5=3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Izvršena je dioba akcije E u razmjeri 4:1. Izračunati vrijednost djelioca cjenovno ponderisanog indeks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571680" y="1857240"/>
          <a:ext cx="4071600" cy="2595600"/>
        </p:xfrm>
        <a:graphic>
          <a:graphicData uri="http://schemas.openxmlformats.org/drawingml/2006/table">
            <a:tbl>
              <a:tblPr/>
              <a:tblGrid>
                <a:gridCol w="2071440"/>
                <a:gridCol w="2000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8400" y="1285920"/>
            <a:ext cx="72673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Stanje cijena nakon diob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Novi prosjek bi iznosio 120/5 = 24. Međutim, kako nije došl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do promjena na tržištu, prosjek mora ostati nepromijenjen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a djelilac se mora usaglasit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djelilac = nova agregatna cijena/stari prosje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prosjek = nova agregatna cijena/novi djelila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857160" y="1857240"/>
          <a:ext cx="3357720" cy="258444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42560" y="12139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120/30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prosjek = 120/4 = 30        jednak je sa starim prosjekom; promjena nastala pri diobi akcija nije uticala na prosjek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1991 DJIA je koristio djelilac 0,559; DJTA (transportation) je koristio djelilac 0,709; DJUA (utilities) je koristio djelilac 1,997; DJCA (composite) je koristio djelilac 2,751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ight Arrow 3"/>
          <p:cNvSpPr/>
          <p:nvPr/>
        </p:nvSpPr>
        <p:spPr>
          <a:xfrm>
            <a:off x="3857760" y="1785960"/>
            <a:ext cx="4284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95120" y="-19080"/>
            <a:ext cx="7858440" cy="1238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85480" y="1285920"/>
            <a:ext cx="7786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prosjeci predstavljaju osnovni indikator berzanskih prom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Transportation Average (konstruisan 1884, sastojao se od 11 akcija željezničkih kompanija; 1897 prosjek se koriguje sa 11 na 20 akcija, koliko indeks ima i danas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Industrial Average (konstruisan 1897, sastojao se od 12 akcija, a danas se sastoji od 30 akcija; od originalne liste zadržao se samo General Electric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Utilities Average (konstruisan 1929, sastojao se od 18 akcija, a danas se sastoji od 15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17:16Z</dcterms:created>
  <dc:creator>Ana</dc:creator>
  <dc:description/>
  <dc:language>en-US</dc:language>
  <cp:lastModifiedBy>Ana</cp:lastModifiedBy>
  <dcterms:modified xsi:type="dcterms:W3CDTF">2011-03-04T10:29:48Z</dcterms:modified>
  <cp:revision>12</cp:revision>
  <dc:subject/>
  <dc:title>          ANALIZA  BERZANSKOG POSLOVANJA</dc:title>
</cp:coreProperties>
</file>